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2994-6971-4157-A40A-82C4E87879B2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8B28-4A7A-4059-AB6B-4E1217919C41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E023-2C58-4CE5-B6B0-FD609CA7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A467-D2F7-4EAE-B098-F52A45DA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0A34-CFC4-47A7-8365-C8E8F293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ABB4-A482-47CD-9919-A521C150C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DDCF-D9BD-411D-A6B5-DE62E6FB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43A8-F12C-4DED-8BB1-E8AAE1F1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9248-AF84-4080-88AB-47122736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7F41-FF2D-46A8-908D-7677EF47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9908-4DA0-405D-8298-4948628A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F7A0-F32E-4A01-B75E-825A55D8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F5B8-DA0C-4C56-BF33-A7092A64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0704-D924-4D9A-B149-DAB94AA9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D1D3-2B85-415A-A978-F7488E65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0D21-A176-4E6F-AC26-4EE6C3FC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492B-91CE-4360-BB5A-476FA5D3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81A1-EBC8-486D-983D-D268D9A4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07E0-11EA-44CD-8D8E-CC3DB039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7371-08BB-4481-A37A-63D89BB7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4445-8A48-4799-9912-702DC354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0620-7CBD-4D62-9406-2FC879D9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E4FC-8C56-4533-9FAC-4A1F1CD9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3CEC-52BE-4017-8047-16DD12A6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2C97-2D3E-4255-AD42-7D500D9C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505A-8C59-42BF-BB0F-6D941266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FB3C-C87E-4022-A65F-4D545759F96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39393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39393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77A8-026E-4C55-907B-721D77D32C59}" type="slidenum">
              <a:rPr b="0" lang="en-CA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istory of Atomic Mode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3276720" y="3645000"/>
            <a:ext cx="309564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15" descr="Image result for atomic model"/>
          <p:cNvPicPr/>
          <p:nvPr/>
        </p:nvPicPr>
        <p:blipFill>
          <a:blip r:embed="rId1"/>
          <a:stretch/>
        </p:blipFill>
        <p:spPr>
          <a:xfrm>
            <a:off x="2987640" y="2637000"/>
            <a:ext cx="2571840" cy="2885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7" descr="Image result for atomic model"/>
          <p:cNvPicPr/>
          <p:nvPr/>
        </p:nvPicPr>
        <p:blipFill>
          <a:blip r:embed="rId2"/>
          <a:stretch/>
        </p:blipFill>
        <p:spPr>
          <a:xfrm>
            <a:off x="324000" y="29368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3" descr="Image result for atomic model schrodinger"/>
          <p:cNvPicPr/>
          <p:nvPr/>
        </p:nvPicPr>
        <p:blipFill>
          <a:blip r:embed="rId3"/>
          <a:stretch/>
        </p:blipFill>
        <p:spPr>
          <a:xfrm>
            <a:off x="6084720" y="2911320"/>
            <a:ext cx="2590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My Documents\School\sc9\thomson model.gif"/>
          <p:cNvPicPr/>
          <p:nvPr/>
        </p:nvPicPr>
        <p:blipFill>
          <a:blip r:embed="rId1"/>
          <a:stretch/>
        </p:blipFill>
        <p:spPr>
          <a:xfrm>
            <a:off x="0" y="587520"/>
            <a:ext cx="9144000" cy="62704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1752480" y="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um-Pudding Mod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0" y="6400800"/>
            <a:ext cx="472428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rnest Rutherfor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3" descr="C:\My Documents\School\sc9\rutherford.jpg"/>
          <p:cNvPicPr/>
          <p:nvPr/>
        </p:nvPicPr>
        <p:blipFill>
          <a:blip r:embed="rId1"/>
          <a:stretch/>
        </p:blipFill>
        <p:spPr>
          <a:xfrm>
            <a:off x="2789280" y="1847880"/>
            <a:ext cx="36622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utherford Gold Foil (Geiger Muller) Experi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rnest Rutherford proposed shooting alpha particles at extremely thin gold f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went right through with little deflection, but some bounced bac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result was thought to be like cannon balls bouncing off tissue pap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https://upload.wikimedia.org/wikipedia/commons/thumb/f/f9/Geiger-Marsden_experiment_expectation_and_result.svg/1024px-Geiger-Marsden_experiment_expectation_and_result.svg.png"/>
          <p:cNvPicPr/>
          <p:nvPr/>
        </p:nvPicPr>
        <p:blipFill>
          <a:blip r:embed="rId1"/>
          <a:stretch/>
        </p:blipFill>
        <p:spPr>
          <a:xfrm>
            <a:off x="1193760" y="692280"/>
            <a:ext cx="6253200" cy="58323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pha particles should be undeflected but observed to bounce 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utherford Atomic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alpha particles must have bounced off an area of the atom that is positively charged and extremely den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utherford concluded that the atom has a dense positive nucleus with electrons orbiting aroun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utherford Model of the Atom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8" descr="Image result for rutherford model"/>
          <p:cNvPicPr/>
          <p:nvPr/>
        </p:nvPicPr>
        <p:blipFill>
          <a:blip r:embed="rId1"/>
          <a:stretch/>
        </p:blipFill>
        <p:spPr>
          <a:xfrm>
            <a:off x="539640" y="1197000"/>
            <a:ext cx="762012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iels Boh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3" descr="C:\My Documents\School\sc9\bohr.jpg"/>
          <p:cNvPicPr/>
          <p:nvPr/>
        </p:nvPicPr>
        <p:blipFill>
          <a:blip r:embed="rId1"/>
          <a:stretch/>
        </p:blipFill>
        <p:spPr>
          <a:xfrm>
            <a:off x="4114800" y="765000"/>
            <a:ext cx="401328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ohr Model 191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ght (electromagnetic radiation) is emitted from matter at particular energies, or quant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ght is produced when electrons move from high energy states to low energy state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lectrons exist in particular orbit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https://upload.wikimedia.org/wikipedia/commons/thumb/a/a5/Bohr_atom_model_English.svg/420px-Bohr_atom_model_English.svg.png"/>
          <p:cNvPicPr/>
          <p:nvPr/>
        </p:nvPicPr>
        <p:blipFill>
          <a:blip r:embed="rId1"/>
          <a:stretch/>
        </p:blipFill>
        <p:spPr>
          <a:xfrm>
            <a:off x="1403280" y="115920"/>
            <a:ext cx="590544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dern Atomic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ntum Mechanics shows how there is a limit to our ability to determine the motion and position of partic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tion of objects is described using a wave equation, </a:t>
            </a:r>
            <a:r>
              <a:rPr b="0" lang="en-CA" sz="2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where </a:t>
            </a:r>
            <a:r>
              <a:rPr b="0" lang="en-CA" sz="2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CA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the probability distribution of the object.  Graphing </a:t>
            </a:r>
            <a:r>
              <a:rPr b="0" lang="en-CA" sz="2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CA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an electron around the hydrogen atom we obtain orbital shap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Related image"/>
          <p:cNvPicPr/>
          <p:nvPr/>
        </p:nvPicPr>
        <p:blipFill>
          <a:blip r:embed="rId1"/>
          <a:stretch/>
        </p:blipFill>
        <p:spPr>
          <a:xfrm>
            <a:off x="-12600" y="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Image result for kanada atomic theory"/>
          <p:cNvPicPr/>
          <p:nvPr/>
        </p:nvPicPr>
        <p:blipFill>
          <a:blip r:embed="rId2"/>
          <a:stretch/>
        </p:blipFill>
        <p:spPr>
          <a:xfrm>
            <a:off x="4356000" y="2492280"/>
            <a:ext cx="19195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Image result for orbitals s p d f"/>
          <p:cNvPicPr/>
          <p:nvPr/>
        </p:nvPicPr>
        <p:blipFill>
          <a:blip r:embed="rId1"/>
          <a:stretch/>
        </p:blipFill>
        <p:spPr>
          <a:xfrm>
            <a:off x="-1440" y="0"/>
            <a:ext cx="92948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9" descr="Image result for atomic model schrodinger"/>
          <p:cNvPicPr/>
          <p:nvPr/>
        </p:nvPicPr>
        <p:blipFill>
          <a:blip r:embed="rId1"/>
          <a:stretch/>
        </p:blipFill>
        <p:spPr>
          <a:xfrm>
            <a:off x="1619280" y="944640"/>
            <a:ext cx="626580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dwick 1931 discovered that the nucleus contains protons and neutr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ns and neutrons are composed of quarks (1964 Gell-Mann and Zweig)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rong force between the quarks is what holds the nucleus together and produces massive amounts of energy in a nuclear reaction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side the Nucle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mework P584 Q 1.1-1.4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5" descr="Image result for atomic model schrodinger"/>
          <p:cNvPicPr/>
          <p:nvPr/>
        </p:nvPicPr>
        <p:blipFill>
          <a:blip r:embed="rId1"/>
          <a:stretch/>
        </p:blipFill>
        <p:spPr>
          <a:xfrm>
            <a:off x="324000" y="1760400"/>
            <a:ext cx="825660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2" descr="Related image"/>
          <p:cNvPicPr/>
          <p:nvPr/>
        </p:nvPicPr>
        <p:blipFill>
          <a:blip r:embed="rId1"/>
          <a:stretch/>
        </p:blipFill>
        <p:spPr>
          <a:xfrm>
            <a:off x="4473720" y="765000"/>
            <a:ext cx="4373280" cy="4114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Related image"/>
          <p:cNvPicPr/>
          <p:nvPr/>
        </p:nvPicPr>
        <p:blipFill>
          <a:blip r:embed="rId2"/>
          <a:stretch/>
        </p:blipFill>
        <p:spPr>
          <a:xfrm>
            <a:off x="20520" y="765000"/>
            <a:ext cx="4238640" cy="44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9760" y="254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Image result for history of atom"/>
          <p:cNvPicPr/>
          <p:nvPr/>
        </p:nvPicPr>
        <p:blipFill>
          <a:blip r:embed="rId1"/>
          <a:stretch/>
        </p:blipFill>
        <p:spPr>
          <a:xfrm>
            <a:off x="179280" y="-100080"/>
            <a:ext cx="6077160" cy="4562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2" descr="Image result for history of atom"/>
          <p:cNvPicPr/>
          <p:nvPr/>
        </p:nvPicPr>
        <p:blipFill>
          <a:blip r:embed="rId1"/>
          <a:stretch/>
        </p:blipFill>
        <p:spPr>
          <a:xfrm>
            <a:off x="2013120" y="1981080"/>
            <a:ext cx="5117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2" descr="Image result for history of atom"/>
          <p:cNvPicPr/>
          <p:nvPr/>
        </p:nvPicPr>
        <p:blipFill>
          <a:blip r:embed="rId1"/>
          <a:stretch/>
        </p:blipFill>
        <p:spPr>
          <a:xfrm>
            <a:off x="41400" y="307800"/>
            <a:ext cx="910260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08600" y="898200"/>
            <a:ext cx="4486320" cy="226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emocritus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(460-360 BC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7" descr="Related image"/>
          <p:cNvPicPr/>
          <p:nvPr/>
        </p:nvPicPr>
        <p:blipFill>
          <a:blip r:embed="rId1"/>
          <a:stretch/>
        </p:blipFill>
        <p:spPr>
          <a:xfrm>
            <a:off x="108000" y="115920"/>
            <a:ext cx="4800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Democritu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ll things are composed of minute, invisible and indivisible particles, atoma, (indivisibles) in constant motion through otherwise empty space, kenon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istot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8240" y="1988640"/>
            <a:ext cx="51354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gued against atomic theory and believed everything was composed of the 5 ele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ly influential for 2000 yea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Image result for aristotle"/>
          <p:cNvPicPr/>
          <p:nvPr/>
        </p:nvPicPr>
        <p:blipFill>
          <a:blip r:embed="rId1"/>
          <a:stretch/>
        </p:blipFill>
        <p:spPr>
          <a:xfrm>
            <a:off x="5148360" y="374760"/>
            <a:ext cx="3571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lton 1800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8000" y="1981080"/>
            <a:ext cx="431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cals are composed of elements combined together in certain propor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lliard bal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l of at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7" descr="Image result for john dalton billiard ball model"/>
          <p:cNvPicPr/>
          <p:nvPr/>
        </p:nvPicPr>
        <p:blipFill>
          <a:blip r:embed="rId1"/>
          <a:stretch/>
        </p:blipFill>
        <p:spPr>
          <a:xfrm>
            <a:off x="4896000" y="6480"/>
            <a:ext cx="4032000" cy="4032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Image result for john dalton billiard ball model"/>
          <p:cNvPicPr/>
          <p:nvPr/>
        </p:nvPicPr>
        <p:blipFill>
          <a:blip r:embed="rId2"/>
          <a:stretch/>
        </p:blipFill>
        <p:spPr>
          <a:xfrm>
            <a:off x="3995640" y="4181400"/>
            <a:ext cx="35290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Content Placeholder 5" descr="Image result for dalton atomic model"/>
          <p:cNvPicPr/>
          <p:nvPr/>
        </p:nvPicPr>
        <p:blipFill>
          <a:blip r:embed="rId1"/>
          <a:stretch/>
        </p:blipFill>
        <p:spPr>
          <a:xfrm>
            <a:off x="108000" y="1571760"/>
            <a:ext cx="87613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r Joseph John Thompson 19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lyzed the nature of cathode ray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noticed that they had particle like properties and were identical regardless of the material producing the ray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Image result for jj thomson"/>
          <p:cNvPicPr/>
          <p:nvPr/>
        </p:nvPicPr>
        <p:blipFill>
          <a:blip r:embed="rId1"/>
          <a:stretch/>
        </p:blipFill>
        <p:spPr>
          <a:xfrm>
            <a:off x="5076720" y="1125360"/>
            <a:ext cx="343404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lum-Pudding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rd Kelvin and JJ Thompson concluded that the atom was composed of tiny negatively charged electrons and positive charge mixed together. This was called the Plum-Pudding Model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1T20:47:02Z</dcterms:created>
  <dc:creator>Sir Winston Churchill Secondary</dc:creator>
  <dc:description/>
  <dc:language>en-US</dc:language>
  <cp:lastModifiedBy>Adam Mathew Klaassen</cp:lastModifiedBy>
  <dcterms:modified xsi:type="dcterms:W3CDTF">2017-02-15T21:21:27Z</dcterms:modified>
  <cp:revision>46</cp:revision>
  <dc:subject/>
  <dc:title>Sir Joseph John Thompson</dc:title>
</cp:coreProperties>
</file>